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930-14D2-44F1-8F1B-09665256A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A7F8-4999-45E5-9B6F-9C7DA830C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32C6-E4FF-4353-9D21-DC12020F8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72F4-C35F-4284-BFF1-8FC461C15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A05D-55F0-4B8D-BBDF-4CD902B17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68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66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68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EB3B-AD73-494E-ABC4-B30454430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FB1A-819E-464B-8865-13CD90724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0E34-B0B7-47C2-9B00-802D2012E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F6F4-FA79-4E7F-A2C3-E9AC1C8AA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C4C1-AED3-4243-AA28-CD34C3B49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9019-0D01-4160-B484-790D4020F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D384-E909-47E9-9C8E-071D382BD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550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9280">
              <a:spcBef>
                <a:spcPts val="55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179280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73240">
              <a:spcBef>
                <a:spcPts val="55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4360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62626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D4F-1E81-4904-B822-07EB8ED15A19}" type="slidenum">
              <a:rPr b="0" lang="ru-RU" sz="1000" spc="-1" strike="noStrike">
                <a:solidFill>
                  <a:srgbClr val="262626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550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9280">
              <a:spcBef>
                <a:spcPts val="55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179280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73240">
              <a:spcBef>
                <a:spcPts val="55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92120" y="878040"/>
            <a:ext cx="6772320" cy="28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Программа модернизации педагог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2014 – 201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371520" y="1076400"/>
            <a:ext cx="815652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ьно повысить качество людей, получающих педагогическую подготов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ь содержание и технологии педагогической подготовки так, чтобы обеспечить реализацию нового профессионального стандарта  и новых стандартов школьного образования (практические компетенции, повышение уровня педагогов дошкольного и начального образования, карьерно-образовательная перспектива для учителей, подготовка лидеров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эффективность существующих педагогических вузов и колледж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1160" y="266760"/>
            <a:ext cx="8458200" cy="74304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Цели программы</a:t>
            </a:r>
            <a:endParaRPr b="1" lang="en-US" sz="32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6200" y="626760"/>
            <a:ext cx="88092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ной бакалавриат, реализуемый в сетевом взаимодействии организаций СПО и вуз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едагогов на 3 и 4 курсе после двух курсов непедагогического бакалавриа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бакалавриат в педагогических вузах, предполагающий целенаправленную педагогическую подготовку лучших студен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развития практических компетенций на основе нового профессионального стандарта в том числе через длительную стажировку в школах-партнерах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тура для учителей-методистов и управленцев с возможностью быстрого входа в профессию людей без педагогического образ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ый экзамен на основе нового профессионального стандарта, упрощающий вход в профессию и позволяющий оценивать качество подготов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4986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Ключевые элементы новой системы подготовки педагогов</a:t>
            </a:r>
            <a:endParaRPr b="1" lang="en-US" sz="20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Этапы реализации программы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14-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еализация пилотных проектов по трем направлениям в 17-25 вузах: отработка новых моделей и программ, подготовка носителей новой идеологии и технологии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азработка новой системы распределения КЦП для подготовки педагогов, стимулирующей переход на новые модели и программы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16-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спользование новой системы распределения КЦП для распространения новых моделей и технологий подготовки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538200" indent="-273240"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етодическое сопровождение распространения новых моделей и технологий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130C-D59C-4EBA-AEDA-D647FDAA6EC5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6200" y="626760"/>
            <a:ext cx="88092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е к распространению модели подготовки педагогов, включающие пакеты основных образовательных программ, практические рекомендации по реализации, нормативные документы, программы повышения квалификации ПП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20 вузов – носителей новых гибких моделей подготовки педагогов, которые могут стать центрами распространения новой идеологии и технологии. Они создадут ассоциацию педагогическ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3000 студентов, участвующих в инновационной п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200 преподавателей, освоивших новые технологии и под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й для независимой оценки профессиональных компетенций в соответствии с требованиями профессионального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4986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Результаты первого этапа программы</a:t>
            </a:r>
            <a:endParaRPr b="1" lang="en-US" sz="20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6840" y="851040"/>
            <a:ext cx="84582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ка и апробация основных образовательных программ педагогического бакалавриата в соответствии с новым стандартом профессиональной деятельности педагога для повышения практичности подготовки будущих педагогов за сч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 школьно-университетского партнер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рганизации специально организованной стажир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ка и апробация основных образовательных програм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го прикладного бакалавриа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и с новым стандартом профессиональной деятельности педагога для повышения практичности подготовки будущих педагогов за счет сетевого взаимодействия организаций СПО и ВО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60200"/>
            <a:ext cx="8458200" cy="6588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Проект 1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Усиление практической направленности подготовки</a:t>
            </a:r>
            <a:endParaRPr b="1" lang="en-US" sz="18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6840" y="1076040"/>
            <a:ext cx="84582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апробация программ широкого бакалавриата в педагогических вузах, предусматривающих целенаправленную подготовку к педагогической деятельности лучших и мотивированных студентов и подготовку «оставшихся» выпускников этих программ к другой профессиональ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dd7e0e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апробация модели педагогической подготовки мотивированных студентов, закончивших 2-3 курса непедагогического бакалаври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60200"/>
            <a:ext cx="8458200" cy="50976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Проект 2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Вариативная подготовка педагогов</a:t>
            </a:r>
            <a:endParaRPr b="1" lang="en-US" sz="18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ка и апробация программ исследовательской магистратуры для подготовки учителей-метод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ка и апробация программ прикладной магистратуры со встроенной долгосрочной практической стажировкой в образовательных организ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отка и апробация магистратуры по управлению образ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66852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Проект 3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 Обеспечение системы образования специалистами высокой квалификации</a:t>
            </a:r>
            <a:endParaRPr b="1" lang="en-US" sz="18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9:27:04Z</dcterms:created>
  <dc:creator>Wolf</dc:creator>
  <dc:description/>
  <dc:language>en-US</dc:language>
  <cp:lastModifiedBy>User</cp:lastModifiedBy>
  <cp:lastPrinted>2013-10-31T07:01:15Z</cp:lastPrinted>
  <dcterms:modified xsi:type="dcterms:W3CDTF">2014-01-10T08:23:40Z</dcterms:modified>
  <cp:revision>94</cp:revision>
  <dc:subject/>
  <dc:title>Слайд 1</dc:title>
</cp:coreProperties>
</file>